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7D06-27DE-4277-8C39-FBFABF69B7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ый момент – это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зей-заповедник "Овстуг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9DF5-F464-465B-BCB9-04EE10AC3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E48-CFD3-46FD-B13C-C876823D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A54-38B8-4494-95FB-5BA14F4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F05-9DF3-4E1A-8EB4-A5ADA942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E37-D94B-4589-9554-64094930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DAD-90D8-4B58-8DB7-6530B4D3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CB0-56B0-431B-AF53-EC424F7D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2C2-1F3B-43B3-859D-B0E5CE9D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83E-D345-486C-92D1-0E8A7BC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B66-412D-4E3D-95AC-6ACECA85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649-4A58-458B-8756-EDA403F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CC4-3887-48D3-AF28-E48CFD6D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31A-1D5E-4018-9D7D-E7085A23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AA5B-52F4-42BC-AA2B-C287C8F82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nnel.ru/?l=gzl&amp;uid=147" TargetMode="External"/><Relationship Id="rId2" Type="http://schemas.openxmlformats.org/officeDocument/2006/relationships/hyperlink" Target="http://upload.wikimedia.org/wikipedia/commons/2/29/Tyutchev_memorial_Bryansk.jpg" TargetMode="External"/><Relationship Id="rId3" Type="http://schemas.openxmlformats.org/officeDocument/2006/relationships/hyperlink" Target="http://upload.wikimedia.org/wikipedia/commons/1/18/MonumentTutchev.JPG" TargetMode="External"/><Relationship Id="rId4" Type="http://schemas.openxmlformats.org/officeDocument/2006/relationships/hyperlink" Target="http://upload.wikimedia.org/wikipedia/commons/1/18/MonumentTutchev.JPG" TargetMode="External"/><Relationship Id="rId5" Type="http://schemas.openxmlformats.org/officeDocument/2006/relationships/hyperlink" Target="http://upload.wikimedia.org/wikipedia/commons/d/d9/Owstug.JPG" TargetMode="External"/><Relationship Id="rId6" Type="http://schemas.openxmlformats.org/officeDocument/2006/relationships/hyperlink" Target="http://www.hrono.ru/biograf/bio_t/tjutchev_fi.php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50020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ография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а Ивановича Тютчева</a:t>
            </a:r>
            <a:br>
              <a:rPr sz="44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к уроку литературного чтения 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1-4 классы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Любой УМК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571680" y="150012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2428920" y="5929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Умер  Федор Иванович в Царском Сел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15 июня 1873 года,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 похоронен на Новодевичьем кладбище </a:t>
            </a:r>
            <a:br>
              <a:rPr sz="3400"/>
            </a:br>
            <a:r>
              <a:rPr b="1" lang="ru-RU" sz="34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Петербурге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14680" y="2428920"/>
            <a:ext cx="571500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поэту в Овсту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714760" y="1428840"/>
            <a:ext cx="37144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3429000" cy="52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амятник в Брянс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Список используемых Интернет-ресурс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tonnel.ru/?l=gzl&amp;uid=1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ник Тютчеву Ф.И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upload.wikimedia.org/wikipedia/commons/2/29/Tyutchev_memorial_Bryansk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upload.wikimedia.org/wikipedia/commons/1/18/MonumentTutch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 в Овстуг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upload.wikimedia.org/wikipedia/commons/d/d9/Owstu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hrono.ru/biograf/bio_t/tjutchev_fi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у до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2003-07.photosight.ru/22/25725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4format.ru/photo.open.php?file=448dbe6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har.ru/books/p80274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books.ru/img_cat/5081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ozon.ru/multimedia/books_covers/100024615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рское Сел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2.nnm.ru/5/5/e/f/d/776f795c0ea50fdd041a526f13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юнхен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ia-pr.de/rusindex/o_nas/tutchev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3741480" cy="4573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>
            <a:hlinkClick r:id="rId2" action="ppaction://hlinksldjump"/>
          </p:cNvPr>
          <p:cNvSpPr/>
          <p:nvPr/>
        </p:nvSpPr>
        <p:spPr>
          <a:xfrm>
            <a:off x="4357800" y="1714680"/>
            <a:ext cx="464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3 г. – 18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пло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лен-корреспондент Петербургской 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>
            <a:hlinkClick r:id="rId1" action="ppaction://hlinksldjump"/>
          </p:cNvPr>
          <p:cNvSpPr/>
          <p:nvPr/>
        </p:nvSpPr>
        <p:spPr>
          <a:xfrm>
            <a:off x="285840" y="500040"/>
            <a:ext cx="557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одился 23 ноября (1803 г.) в усадьбе Овстуг Орловской губернии в стародворянской семь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Раннее детство Тютчева протекало в Овстуге. Мальчик жил в мире фантазии. Для него словно не существовало грани между мечтой и реальной действитель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320688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встуг — родовое имение Тютчевых, где 23 ноября 1803 года родился 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0" t="0" r="0" b="4255"/>
          <a:stretch/>
        </p:blipFill>
        <p:spPr>
          <a:xfrm>
            <a:off x="714240" y="1428840"/>
            <a:ext cx="771552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28760" y="428760"/>
            <a:ext cx="5214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ервоначальное образование Феденька Тютчев получил дома. Он обучался истории, географии, арифметике, русскому и иностранным языкам — французскому, немецкому и латинском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Тютчев. Портрет работы неизвестного художника"/>
          <p:cNvPicPr/>
          <p:nvPr/>
        </p:nvPicPr>
        <p:blipFill>
          <a:blip r:embed="rId1"/>
          <a:stretch/>
        </p:blipFill>
        <p:spPr>
          <a:xfrm>
            <a:off x="5857920" y="3357720"/>
            <a:ext cx="2541600" cy="307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357960" y="571680"/>
            <a:ext cx="19051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00040" y="42876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возрасте 16 лет поступил  в Московский университ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В том же году (1819) опубликовано его первое 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286240" y="428760"/>
            <a:ext cx="3403800" cy="4100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1643040" y="4714920"/>
            <a:ext cx="300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428760" y="285840"/>
            <a:ext cx="871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Осенью 1821 года Тютчев заканчивает университет со степенью кандидата словесных наук. Он получает место сверхштатного чиновника (дипломата) русской миссии в Баварии. В июле 1822 года он отправляется в Мюнхен и проводит там 22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143000" y="485784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е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л выдающийся российский поэт и дипломат  Федор Иванович Тютч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71424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оэзия Тютчева насчитывает немногим более 400 стихотворений. Одной из самых распространенных тематик  в творчестве поэта – природ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71680" y="3071880"/>
            <a:ext cx="5905440" cy="3429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573960" y="507204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адьб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6534a"/>
                </a:solidFill>
                <a:latin typeface="Times New Roman"/>
                <a:ea typeface="Times New Roman"/>
              </a:rPr>
              <a:t>Произведения Фёдора Тютч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500200" cy="400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979720" cy="390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143160" y="1357200"/>
            <a:ext cx="242892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8:58:10Z</dcterms:created>
  <dc:creator>Galina</dc:creator>
  <dc:description/>
  <dc:language>en-US</dc:language>
  <cp:lastModifiedBy>Galina</cp:lastModifiedBy>
  <dcterms:modified xsi:type="dcterms:W3CDTF">2010-08-18T17:24:34Z</dcterms:modified>
  <cp:revision>46</cp:revision>
  <dc:subject/>
  <dc:title>Биография и творчество  Фёдора Ивановича Тютчева  3 класс 1 полугодие УМК «Школа России» </dc:title>
</cp:coreProperties>
</file>